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move the slide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146E-685C-4EA0-9FAC-698875794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013-63E6-44C8-AAA3-922AD2BBE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12E9-0DA2-462B-A9E1-E92A9350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00D-7D5E-45B0-BD4A-C4A9D441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D8F-EFCF-48FD-920B-83262D66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0D2-53A3-4445-ADE3-34E4E104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3B0-B899-480D-881B-849EDABE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11F7-D0ED-44C9-B4AC-A755A069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049C-192E-48A6-B04D-4E39CD0C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E431-020C-445B-8BDC-51BCF6A0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CEE8-F724-4D34-BDEE-28B29AA9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C8E9-AC18-4FAE-B494-661A0E56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AD31-6452-4278-B5F9-1B907479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3AA-069B-411C-ABBB-468BED31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E09-51D8-40AB-8509-C291785B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3039-57A5-4C7B-8A52-6375AF3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5511-CD6C-405E-9B0A-D36D287D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D584-A32A-4961-B048-517A9D80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2990-79BD-4F41-84B9-9DB89326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3439-B887-4DF2-A892-EFEA280F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BC4B-2DDC-4B03-9155-90A13E91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8990-C727-4707-A017-496FDE42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36C7-6CC4-46C3-A014-E0DE21D2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3D08-5216-402E-9D59-50791B81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1574-BF48-4FFA-A420-0EB8CB22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6DE-3271-4AAA-93F3-5AAE7EC2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B78A-E779-4125-9960-F9F6EC8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7947-1B37-48B9-9F75-51439A0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38B9-0268-4250-B65F-867E4E04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4BA4-D7C6-4E53-AB92-9F32DDF1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13C7-4300-4B02-84F9-D6242E41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69B2-6BFD-40C1-A8AF-7D3D6BEF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BBDC-ADF1-4BFA-BB4D-60B5F4B1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DB659-116F-4776-ABB5-D5C4D340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A798-E2D9-4088-B2DA-0B47DF58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5551-88A8-4B0B-B568-18DF5444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09B-5118-434C-A598-FAC27FA4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28B50-9B46-4BAD-A5F8-C66E6DF6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BFE5-AC3F-4124-9014-3366D7E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E45CA-17DF-41A8-A89C-DC3DB704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1120-DA8D-40BE-820C-967432E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ABEE-079F-4E18-AEB9-36A8291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E8B3-2DAF-4949-85FC-F830CAE4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9D4B-FAD1-4973-B9C2-3478EC75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FACC0-B178-4C4F-8C92-A5C97904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B05E-5701-43AE-B79B-80D384B3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C247D-44B3-4ABD-9958-CF1D8A37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291-55AA-441E-B6CB-0193A582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A2461-EDB5-470A-885D-728522D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3492-FB2D-4281-A6DA-58387010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CB0E-B304-4A23-8654-A82C78D3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87C2A-0332-43F5-AB12-F2608A29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32D3-F9DB-4E01-B56F-4CB66710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DAE6-7EA6-4BE9-8D50-0F0FE2E4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294E2-965B-40BB-962C-5B997411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9996-BA85-4331-A86E-1C1A8A16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F786-AC3B-4266-AABB-9EE56275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602C-75B9-41C4-81B4-1B3E4947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A0E-73E4-4CE9-9AE2-1EF11AE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FBDE3-9C47-4F06-A8AD-703B3F35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9E7B-CC58-4109-923F-E0486455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6125A-A92C-4097-885B-FEB2404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BC9A-4162-4C96-A966-9E1EA710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F84E-C1D1-4A8F-A9FC-11E93907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6DEDC-AF1F-41BD-B1D1-37A0E0D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04C9B-1A80-4360-818D-966FDC4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2E614-0085-4CFE-BB55-07F9119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DFD7E-90B3-43A3-9257-415625BB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58130-DBE7-476E-8D08-5469E02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27B-FD52-45D3-A7B0-9D3D4D82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E08EA-4CB1-458A-A76B-46357655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109ED-FFD3-4050-9DD1-25FBB1D4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33845-39C7-42F2-929C-14D478CA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67649-25D7-4CD2-8D78-C2EE791D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873B2-54BA-47DA-AC00-0C829BA3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B85D1-F296-4B1F-B337-28EDBFBD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5C02D-7D86-437C-BB3F-0282C4C5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E1AD3-B7C8-4959-9CBB-3AC85DA9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7960" y="169920"/>
            <a:ext cx="9144000" cy="64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F769F-56FB-4F83-8A5F-C16F4572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7C53C-43D6-4BB0-AA7B-27EC7ECB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0CF-E074-418D-AE77-3BE9503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5FB89-E21A-447A-BAAA-5874AC10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5B67D-E63C-46E6-BCD6-D6CEC057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19013-1A23-46E4-95A9-0741FBE2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93720" y="465660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7A6BF-5AC6-4DFE-8CBE-876A913C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9964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91320" y="197136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796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9964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91320" y="4656600"/>
            <a:ext cx="294408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6DFC-67ED-4F00-9A57-5C592CE9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720" y="1971360"/>
            <a:ext cx="44622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656600"/>
            <a:ext cx="9144000" cy="245196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9FD-2924-40BB-AADC-30E74D12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95520"/>
            <a:ext cx="101599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159920" cy="159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51EF-A709-4577-ADAF-70D3B65506B4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159920" cy="570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97360"/>
            <a:ext cx="101599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5" marL="1584360" indent="-20160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6" marL="1584360" indent="-20160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A337-71AA-4FE9-A247-D0B1193C9D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159920" cy="289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92600"/>
            <a:ext cx="101599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5" marL="1584360" indent="-20160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  <a:p>
            <a:pPr lvl="6" marL="1584360" indent="-20160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37B8-99AD-409A-8F37-D7582AABE3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73BD-CDE0-4C92-ADB1-9E6DCAC552DD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95520"/>
            <a:ext cx="101599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159920" cy="159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73400" y="0"/>
            <a:ext cx="5076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73400" y="0"/>
            <a:ext cx="5076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33640" y="7195680"/>
            <a:ext cx="6120000" cy="30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3356-F3DC-41B1-9FE9-1ECFFA32F439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95520"/>
            <a:ext cx="101599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159920" cy="159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73400" y="0"/>
            <a:ext cx="50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73400" y="0"/>
            <a:ext cx="50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2520" y="1299960"/>
            <a:ext cx="2805120" cy="22356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73200" y="1299960"/>
            <a:ext cx="5770440" cy="22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266400" y="1299960"/>
            <a:ext cx="814320" cy="223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AD14-CECB-4206-A5D4-0E9F2194E9C3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332840" y="0"/>
            <a:ext cx="50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86480" y="0"/>
            <a:ext cx="2794320" cy="762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7960" y="169920"/>
            <a:ext cx="9144000" cy="1388880"/>
          </a:xfrm>
          <a:prstGeom prst="rect">
            <a:avLst/>
          </a:prstGeom>
          <a:noFill/>
          <a:ln w="0">
            <a:noFill/>
          </a:ln>
        </p:spPr>
        <p:txBody>
          <a:bodyPr lIns="10152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1f4"/>
                </a:solidFill>
                <a:latin typeface="Courier New"/>
              </a:rPr>
              <a:t>Click to edit the title text format</a:t>
            </a:r>
            <a:endParaRPr b="1" lang="en-US" sz="5000" spc="-1" strike="noStrike">
              <a:solidFill>
                <a:srgbClr val="0071f4"/>
              </a:solidFill>
              <a:latin typeface="Courier Ne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7960" y="1971360"/>
            <a:ext cx="9144000" cy="5140440"/>
          </a:xfrm>
          <a:prstGeom prst="rect">
            <a:avLst/>
          </a:prstGeom>
          <a:noFill/>
          <a:ln w="0">
            <a:noFill/>
          </a:ln>
        </p:spPr>
        <p:txBody>
          <a:bodyPr lIns="60840" rIns="101520" tIns="101520" bIns="50760" anchor="t">
            <a:normAutofit/>
          </a:bodyPr>
          <a:p>
            <a:pPr marL="487440" indent="-354240">
              <a:buClr>
                <a:srgbClr val="0f6fc6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811080" indent="-303120">
              <a:buClr>
                <a:srgbClr val="009d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2" marL="1106640" indent="-252720">
              <a:buClr>
                <a:srgbClr val="0bd0d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3" marL="1351080" indent="-201600">
              <a:buClr>
                <a:srgbClr val="10cf9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4" marL="1584360" indent="-201600">
              <a:buClr>
                <a:srgbClr val="7cca6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5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6" marL="1584360" indent="-20160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7960" y="7195680"/>
            <a:ext cx="2370240" cy="304920"/>
          </a:xfrm>
          <a:prstGeom prst="rect">
            <a:avLst/>
          </a:prstGeom>
          <a:noFill/>
          <a:ln w="0">
            <a:noFill/>
          </a:ln>
        </p:spPr>
        <p:txBody>
          <a:bodyPr lIns="12204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33640" y="7086600"/>
            <a:ext cx="4262400" cy="40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115560" y="7195680"/>
            <a:ext cx="81576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F93E-3559-449C-8EFB-04E47A416B9C}" type="slidenum">
              <a:rPr b="0" lang="en-US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XYRkp2HZto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YdxCx7GilbQ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1640" y="36180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422360" y="2057400"/>
            <a:ext cx="7315200" cy="1371600"/>
          </a:xfrm>
          <a:prstGeom prst="rect">
            <a:avLst/>
          </a:prstGeom>
          <a:solidFill>
            <a:srgbClr val="073763"/>
          </a:solidFill>
          <a:ln w="127080">
            <a:solidFill>
              <a:srgbClr val="caf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2413080" y="4343400"/>
            <a:ext cx="5029200" cy="91440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346040" y="2209680"/>
            <a:ext cx="759312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8e3fb"/>
                </a:solidFill>
                <a:uFillTx/>
                <a:latin typeface="Century Gothic"/>
              </a:rPr>
              <a:t>What Year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336760" y="4495680"/>
            <a:ext cx="520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e3fb"/>
                </a:solidFill>
                <a:latin typeface="Century Gothic"/>
              </a:rPr>
              <a:t>By:  Nicole Oldh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1346040" y="5791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3"/>
              </a:rPr>
              <a:t>http://www.youtube.com/watch?v=YdxCx7Gil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372960" y="304920"/>
            <a:ext cx="9496440" cy="70102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>
            <a:off x="5308560" y="2743200"/>
            <a:ext cx="4038480" cy="43876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812880" y="609480"/>
            <a:ext cx="4160880" cy="464832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1035000" y="838080"/>
            <a:ext cx="3740040" cy="4191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"/>
          <p:cNvPicPr/>
          <p:nvPr/>
        </p:nvPicPr>
        <p:blipFill>
          <a:blip r:embed="rId3"/>
          <a:stretch/>
        </p:blipFill>
        <p:spPr>
          <a:xfrm>
            <a:off x="5613480" y="29718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9"/>
          <p:cNvSpPr/>
          <p:nvPr/>
        </p:nvSpPr>
        <p:spPr>
          <a:xfrm>
            <a:off x="5156280" y="228600"/>
            <a:ext cx="4419360" cy="22860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Babe Ruth becomes the first baseball player to hit 500 home runs in his career with a home run at League Park in Cleveland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851040" y="5562720"/>
            <a:ext cx="4211640" cy="132696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Guy Lombardo plays Auld Lang Syne for the first tim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630600" y="1530360"/>
            <a:ext cx="3005280" cy="341640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2"/>
          <a:stretch/>
        </p:blipFill>
        <p:spPr>
          <a:xfrm>
            <a:off x="3944880" y="1828800"/>
            <a:ext cx="2457360" cy="28605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9"/>
          <p:cNvSpPr/>
          <p:nvPr/>
        </p:nvSpPr>
        <p:spPr>
          <a:xfrm>
            <a:off x="6813720" y="1419120"/>
            <a:ext cx="2863800" cy="38800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10" descr=""/>
          <p:cNvPicPr/>
          <p:nvPr/>
        </p:nvPicPr>
        <p:blipFill>
          <a:blip r:embed="rId3"/>
          <a:stretch/>
        </p:blipFill>
        <p:spPr>
          <a:xfrm>
            <a:off x="7112160" y="1727280"/>
            <a:ext cx="2284200" cy="33066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1"/>
          <p:cNvSpPr/>
          <p:nvPr/>
        </p:nvSpPr>
        <p:spPr>
          <a:xfrm>
            <a:off x="412920" y="1327320"/>
            <a:ext cx="3066840" cy="38224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12" descr=""/>
          <p:cNvPicPr/>
          <p:nvPr/>
        </p:nvPicPr>
        <p:blipFill>
          <a:blip r:embed="rId4"/>
          <a:stretch/>
        </p:blipFill>
        <p:spPr>
          <a:xfrm>
            <a:off x="711360" y="1625760"/>
            <a:ext cx="2501640" cy="32511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3"/>
          <p:cNvSpPr/>
          <p:nvPr/>
        </p:nvSpPr>
        <p:spPr>
          <a:xfrm>
            <a:off x="6804000" y="5727600"/>
            <a:ext cx="2830680" cy="10540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Audrey Hepb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695760" y="5423040"/>
            <a:ext cx="2735280" cy="120636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Courier New"/>
              </a:rPr>
              <a:t>Anne Frank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442800" y="5334120"/>
            <a:ext cx="2890800" cy="15238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Jacqueline Kennedy Onas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1727280" y="304920"/>
            <a:ext cx="7057800" cy="89208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Born  This  Y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36160" cy="7658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1530360" y="195120"/>
            <a:ext cx="7058160" cy="89244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What  Year  Is 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327480" y="1752480"/>
            <a:ext cx="3504960" cy="89244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e3fb"/>
                </a:solidFill>
                <a:latin typeface="Century Gothic"/>
              </a:rPr>
              <a:t>A.   19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327480" y="3048120"/>
            <a:ext cx="3504960" cy="89208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e3fb"/>
                </a:solidFill>
                <a:latin typeface="Century Gothic"/>
              </a:rPr>
              <a:t>B.   19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327480" y="4343400"/>
            <a:ext cx="3504960" cy="89208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e3fb"/>
                </a:solidFill>
                <a:latin typeface="Century Gothic"/>
              </a:rPr>
              <a:t>C.   192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3327480" y="5638680"/>
            <a:ext cx="3504960" cy="892440"/>
          </a:xfrm>
          <a:prstGeom prst="rect">
            <a:avLst/>
          </a:prstGeom>
          <a:solidFill>
            <a:srgbClr val="073763"/>
          </a:solidFill>
          <a:ln w="63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e3fb"/>
                </a:solidFill>
                <a:latin typeface="Century Gothic"/>
              </a:rPr>
              <a:t>D.   19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0"/>
                            </p:stCondLst>
                            <p:childTnLst>
                              <p:par>
                                <p:cTn id="6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000"/>
                            </p:stCondLst>
                            <p:childTnLst>
                              <p:par>
                                <p:cTn id="6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9220320" cy="68644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5"/>
          <p:cNvSpPr/>
          <p:nvPr/>
        </p:nvSpPr>
        <p:spPr>
          <a:xfrm>
            <a:off x="4927680" y="3657600"/>
            <a:ext cx="3962160" cy="350532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888840" y="1371600"/>
            <a:ext cx="3581640" cy="4038480"/>
          </a:xfrm>
          <a:prstGeom prst="rect">
            <a:avLst/>
          </a:prstGeom>
          <a:solidFill>
            <a:srgbClr val="073763"/>
          </a:solidFill>
          <a:ln w="936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2"/>
          <a:stretch/>
        </p:blipFill>
        <p:spPr>
          <a:xfrm>
            <a:off x="1117440" y="3429000"/>
            <a:ext cx="3187800" cy="1752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"/>
          <p:cNvPicPr/>
          <p:nvPr/>
        </p:nvPicPr>
        <p:blipFill>
          <a:blip r:embed="rId3"/>
          <a:stretch/>
        </p:blipFill>
        <p:spPr>
          <a:xfrm>
            <a:off x="1117440" y="1600200"/>
            <a:ext cx="3156120" cy="1755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4"/>
          <a:stretch/>
        </p:blipFill>
        <p:spPr>
          <a:xfrm>
            <a:off x="5232240" y="3886200"/>
            <a:ext cx="3353040" cy="30510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2"/>
          <p:cNvSpPr/>
          <p:nvPr/>
        </p:nvSpPr>
        <p:spPr>
          <a:xfrm>
            <a:off x="4699080" y="1447920"/>
            <a:ext cx="4647960" cy="20574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  <a:ea typeface="Courier New"/>
              </a:rPr>
              <a:t>The Seeing Eye is established with the mission to train dogs to assist the blind in Nashville Tennesse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736560" y="5562720"/>
            <a:ext cx="4008600" cy="144756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  <a:ea typeface="Courier New"/>
              </a:rPr>
              <a:t>Turkey and Persia sign a friendship treaty</a:t>
            </a:r>
            <a:r>
              <a:rPr b="1" lang="en-US" sz="2800" spc="-1" strike="noStrike">
                <a:solidFill>
                  <a:srgbClr val="003366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574640" y="228600"/>
            <a:ext cx="7058160" cy="99072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8e3fb"/>
                </a:solidFill>
                <a:uFillTx/>
                <a:latin typeface="Century Gothic"/>
              </a:rPr>
              <a:t>World  New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584280" y="304920"/>
            <a:ext cx="9090000" cy="70102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>
            <a:off x="5308560" y="2209680"/>
            <a:ext cx="4495680" cy="480060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03040" y="380880"/>
            <a:ext cx="4876920" cy="556272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5537160" y="243828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3"/>
          <a:stretch/>
        </p:blipFill>
        <p:spPr>
          <a:xfrm>
            <a:off x="431640" y="762120"/>
            <a:ext cx="4516560" cy="47242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9"/>
          <p:cNvSpPr/>
          <p:nvPr/>
        </p:nvSpPr>
        <p:spPr>
          <a:xfrm>
            <a:off x="5156280" y="380880"/>
            <a:ext cx="4778280" cy="16002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urier New"/>
                <a:ea typeface="Courier New"/>
              </a:rPr>
              <a:t>Grand Teton National Park i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507960" y="6172200"/>
            <a:ext cx="4310280" cy="99072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  <a:ea typeface="Courier New"/>
              </a:rPr>
              <a:t>The population reaches 12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74760" y="228600"/>
            <a:ext cx="9543960" cy="71629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380880" y="1428840"/>
            <a:ext cx="4318200" cy="34480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5003640" y="1419120"/>
            <a:ext cx="4775400" cy="376236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2"/>
          <a:stretch/>
        </p:blipFill>
        <p:spPr>
          <a:xfrm>
            <a:off x="660240" y="1676520"/>
            <a:ext cx="3802320" cy="2895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3"/>
          <a:stretch/>
        </p:blipFill>
        <p:spPr>
          <a:xfrm>
            <a:off x="5294160" y="1727280"/>
            <a:ext cx="4213440" cy="31496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1"/>
          <p:cNvSpPr/>
          <p:nvPr/>
        </p:nvSpPr>
        <p:spPr>
          <a:xfrm>
            <a:off x="5079960" y="5410080"/>
            <a:ext cx="4572000" cy="175284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  <a:ea typeface="Courier New"/>
              </a:rPr>
              <a:t>US Admiral Richard Byrd becomes the first person to fly over the South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584280" y="5105520"/>
            <a:ext cx="3886200" cy="19396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  <a:ea typeface="Courier New"/>
              </a:rPr>
              <a:t>U.S colonial Charles Lindbergh leaves on a 3,500 mile flight from Detroit to Cope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530360" y="195120"/>
            <a:ext cx="7058160" cy="89244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Flight  Innov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431640" y="380880"/>
            <a:ext cx="9161640" cy="67820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541440" y="3429000"/>
            <a:ext cx="4503600" cy="35956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8" descr=""/>
          <p:cNvPicPr/>
          <p:nvPr/>
        </p:nvPicPr>
        <p:blipFill>
          <a:blip r:embed="rId2"/>
          <a:stretch/>
        </p:blipFill>
        <p:spPr>
          <a:xfrm>
            <a:off x="892080" y="3809880"/>
            <a:ext cx="3872160" cy="2943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9"/>
          <p:cNvSpPr/>
          <p:nvPr/>
        </p:nvSpPr>
        <p:spPr>
          <a:xfrm>
            <a:off x="5460840" y="1371600"/>
            <a:ext cx="3848400" cy="35812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10" descr=""/>
          <p:cNvPicPr/>
          <p:nvPr/>
        </p:nvPicPr>
        <p:blipFill>
          <a:blip r:embed="rId3"/>
          <a:stretch/>
        </p:blipFill>
        <p:spPr>
          <a:xfrm>
            <a:off x="5765760" y="1600200"/>
            <a:ext cx="3301920" cy="31654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1"/>
          <p:cNvSpPr/>
          <p:nvPr/>
        </p:nvSpPr>
        <p:spPr>
          <a:xfrm>
            <a:off x="733320" y="1359000"/>
            <a:ext cx="4138560" cy="18414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urier New"/>
              </a:rPr>
              <a:t>The first car radio is made by Motor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5524560" y="5105520"/>
            <a:ext cx="3743280" cy="22860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Sam Foster begins selling sunglasses from his counter in Woolworths on the boardwalk in At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498680" y="228600"/>
            <a:ext cx="7057800" cy="89208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Techn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-406440" y="477720"/>
            <a:ext cx="10972800" cy="71424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5"/>
          <p:cNvSpPr/>
          <p:nvPr/>
        </p:nvSpPr>
        <p:spPr>
          <a:xfrm>
            <a:off x="1346040" y="512640"/>
            <a:ext cx="3489480" cy="451656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6" descr=""/>
          <p:cNvPicPr/>
          <p:nvPr/>
        </p:nvPicPr>
        <p:blipFill>
          <a:blip r:embed="rId2"/>
          <a:stretch/>
        </p:blipFill>
        <p:spPr>
          <a:xfrm>
            <a:off x="1641600" y="744480"/>
            <a:ext cx="2981160" cy="39798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7"/>
          <p:cNvSpPr/>
          <p:nvPr/>
        </p:nvSpPr>
        <p:spPr>
          <a:xfrm>
            <a:off x="4984920" y="3352680"/>
            <a:ext cx="3752640" cy="353556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3"/>
          <a:stretch/>
        </p:blipFill>
        <p:spPr>
          <a:xfrm>
            <a:off x="5283360" y="3657600"/>
            <a:ext cx="3176280" cy="2917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9"/>
          <p:cNvSpPr/>
          <p:nvPr/>
        </p:nvSpPr>
        <p:spPr>
          <a:xfrm>
            <a:off x="1422360" y="5181480"/>
            <a:ext cx="3203640" cy="18288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The first public phone booth appears in Lo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5079960" y="762120"/>
            <a:ext cx="3621240" cy="236196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Andreas Stihl, a Swiss engineer begins manufacturing the first gasoline powered chain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9220320" cy="6905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7"/>
          <p:cNvSpPr/>
          <p:nvPr/>
        </p:nvSpPr>
        <p:spPr>
          <a:xfrm>
            <a:off x="920880" y="1419120"/>
            <a:ext cx="4349520" cy="376236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1193760" y="1676520"/>
            <a:ext cx="3778200" cy="32004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5460840" y="1295280"/>
            <a:ext cx="4419720" cy="411480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10" descr=""/>
          <p:cNvPicPr/>
          <p:nvPr/>
        </p:nvPicPr>
        <p:blipFill>
          <a:blip r:embed="rId3"/>
          <a:stretch/>
        </p:blipFill>
        <p:spPr>
          <a:xfrm>
            <a:off x="5842080" y="1600200"/>
            <a:ext cx="3733560" cy="35384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5689440" y="5562720"/>
            <a:ext cx="4000680" cy="18288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A total of over 200,000 die from the Influenza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054080" y="5410080"/>
            <a:ext cx="3857760" cy="143352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Sir Alexander Fleming discovers Penicilli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530360" y="195120"/>
            <a:ext cx="7058160" cy="89244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State  of 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431640" y="284040"/>
            <a:ext cx="9296640" cy="6993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1004760" y="1428840"/>
            <a:ext cx="3575160" cy="35398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2"/>
          <a:stretch/>
        </p:blipFill>
        <p:spPr>
          <a:xfrm>
            <a:off x="1422360" y="1727280"/>
            <a:ext cx="2743200" cy="29592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9"/>
          <p:cNvSpPr/>
          <p:nvPr/>
        </p:nvSpPr>
        <p:spPr>
          <a:xfrm>
            <a:off x="5433840" y="2851200"/>
            <a:ext cx="3235320" cy="381312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0" descr=""/>
          <p:cNvPicPr/>
          <p:nvPr/>
        </p:nvPicPr>
        <p:blipFill>
          <a:blip r:embed="rId3"/>
          <a:stretch/>
        </p:blipFill>
        <p:spPr>
          <a:xfrm>
            <a:off x="5791320" y="3251160"/>
            <a:ext cx="2590560" cy="31370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1"/>
          <p:cNvSpPr/>
          <p:nvPr/>
        </p:nvSpPr>
        <p:spPr>
          <a:xfrm>
            <a:off x="4775040" y="1447920"/>
            <a:ext cx="4335480" cy="12952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The Academy Awards, popularly known as the Oscars, are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733320" y="5118120"/>
            <a:ext cx="4124520" cy="156528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Popeye the Sailor Man first appeared in a newspaper comic s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1574640" y="228600"/>
            <a:ext cx="7058160" cy="892080"/>
          </a:xfrm>
          <a:prstGeom prst="rect">
            <a:avLst/>
          </a:prstGeom>
          <a:solidFill>
            <a:srgbClr val="073763"/>
          </a:solidFill>
          <a:ln w="7632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8e3fb"/>
                </a:solidFill>
                <a:uFillTx/>
                <a:latin typeface="Century Gothic"/>
              </a:rPr>
              <a:t>Pop  Cul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507960" y="304920"/>
            <a:ext cx="9067680" cy="69339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731880" y="380880"/>
            <a:ext cx="5160960" cy="502920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6" descr=""/>
          <p:cNvPicPr/>
          <p:nvPr/>
        </p:nvPicPr>
        <p:blipFill>
          <a:blip r:embed="rId2"/>
          <a:stretch/>
        </p:blipFill>
        <p:spPr>
          <a:xfrm>
            <a:off x="1117440" y="762120"/>
            <a:ext cx="4397400" cy="43434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7"/>
          <p:cNvSpPr/>
          <p:nvPr/>
        </p:nvSpPr>
        <p:spPr>
          <a:xfrm>
            <a:off x="6375240" y="457200"/>
            <a:ext cx="3318120" cy="5008680"/>
          </a:xfrm>
          <a:prstGeom prst="rect">
            <a:avLst/>
          </a:prstGeom>
          <a:solidFill>
            <a:srgbClr val="07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3"/>
          <a:stretch/>
        </p:blipFill>
        <p:spPr>
          <a:xfrm>
            <a:off x="6680160" y="685800"/>
            <a:ext cx="2798640" cy="4540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6031080" y="5791320"/>
            <a:ext cx="3832200" cy="157140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The soft drink 7-up is inv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954000" y="5562720"/>
            <a:ext cx="4656240" cy="1761840"/>
          </a:xfrm>
          <a:prstGeom prst="rect">
            <a:avLst/>
          </a:prstGeom>
          <a:solidFill>
            <a:srgbClr val="c8e3fb"/>
          </a:solidFill>
          <a:ln w="57240">
            <a:solidFill>
              <a:srgbClr val="07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urier New"/>
              </a:rPr>
              <a:t>Museum of Modern Art opens in New Y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ames</cp:lastModifiedBy>
  <dcterms:modified xsi:type="dcterms:W3CDTF">2010-11-30T19:28:11Z</dcterms:modified>
  <cp:revision>36</cp:revision>
  <dc:subject/>
  <dc:title>PowerPoint Presentation</dc:title>
</cp:coreProperties>
</file>